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7FBC3-E9A8-4C0A-A7BC-C4D1137626E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857680" y="514440"/>
            <a:ext cx="3429000" cy="2571840"/>
          </a:xfrm>
          <a:prstGeom prst="rect">
            <a:avLst/>
          </a:prstGeom>
          <a:ln w="0">
            <a:noFill/>
          </a:ln>
        </p:spPr>
      </p:sp>
      <p:sp>
        <p:nvSpPr>
          <p:cNvPr id="60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3AFE3-1F7E-48B4-BA31-376EC9038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2857680" y="514440"/>
            <a:ext cx="3429000" cy="2571840"/>
          </a:xfrm>
          <a:prstGeom prst="rect">
            <a:avLst/>
          </a:prstGeom>
          <a:ln w="0">
            <a:noFill/>
          </a:ln>
        </p:spPr>
      </p:sp>
      <p:sp>
        <p:nvSpPr>
          <p:cNvPr id="60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DBF43-1EEB-4896-ACD3-74A37265B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2857680" y="514440"/>
            <a:ext cx="3429000" cy="2571840"/>
          </a:xfrm>
          <a:prstGeom prst="rect">
            <a:avLst/>
          </a:prstGeom>
          <a:ln w="0">
            <a:noFill/>
          </a:ln>
        </p:spPr>
      </p:sp>
      <p:sp>
        <p:nvSpPr>
          <p:cNvPr id="61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106DE-5D7C-4027-A427-5EFF28DA9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2857680" y="514440"/>
            <a:ext cx="3429000" cy="2571840"/>
          </a:xfrm>
          <a:prstGeom prst="rect">
            <a:avLst/>
          </a:prstGeom>
          <a:ln w="0">
            <a:noFill/>
          </a:ln>
        </p:spPr>
      </p:sp>
      <p:sp>
        <p:nvSpPr>
          <p:cNvPr id="6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73153-EC4B-4FDB-864E-31FE96A62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2857680" y="514440"/>
            <a:ext cx="3429000" cy="2571840"/>
          </a:xfrm>
          <a:prstGeom prst="rect">
            <a:avLst/>
          </a:prstGeom>
          <a:ln w="0">
            <a:noFill/>
          </a:ln>
        </p:spPr>
      </p:sp>
      <p:sp>
        <p:nvSpPr>
          <p:cNvPr id="61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984B7-1CDF-449A-9BBA-9595111AF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2857680" y="514440"/>
            <a:ext cx="3429000" cy="2571840"/>
          </a:xfrm>
          <a:prstGeom prst="rect">
            <a:avLst/>
          </a:prstGeom>
          <a:ln w="0">
            <a:noFill/>
          </a:ln>
        </p:spPr>
      </p:sp>
      <p:sp>
        <p:nvSpPr>
          <p:cNvPr id="61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CE1BD-5A4B-4E9A-8444-F789BDF81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2857680" y="514440"/>
            <a:ext cx="3429000" cy="2571840"/>
          </a:xfrm>
          <a:prstGeom prst="rect">
            <a:avLst/>
          </a:prstGeom>
          <a:ln w="0">
            <a:noFill/>
          </a:ln>
        </p:spPr>
      </p:sp>
      <p:sp>
        <p:nvSpPr>
          <p:cNvPr id="59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81223-FB7F-4D2C-918F-FDE242F90A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2857680" y="514440"/>
            <a:ext cx="3429000" cy="2571840"/>
          </a:xfrm>
          <a:prstGeom prst="rect">
            <a:avLst/>
          </a:prstGeom>
          <a:ln w="0">
            <a:noFill/>
          </a:ln>
        </p:spPr>
      </p:sp>
      <p:sp>
        <p:nvSpPr>
          <p:cNvPr id="59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C9DD5-16BC-4561-8454-C7E33491F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2857680" y="514440"/>
            <a:ext cx="3429000" cy="2571840"/>
          </a:xfrm>
          <a:prstGeom prst="rect">
            <a:avLst/>
          </a:prstGeom>
          <a:ln w="0">
            <a:noFill/>
          </a:ln>
        </p:spPr>
      </p:sp>
      <p:sp>
        <p:nvSpPr>
          <p:cNvPr id="60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2AD72-D3CD-437D-BCD8-C371B01A7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FF442-44C2-414B-B200-65FB496BB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5C1DB-95D1-4851-99F3-D6D5DF5CC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A2DD20-48D4-436E-A506-E1336825D8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418E89-1E80-4F63-9BF6-4AE971EFFE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E0F550-61B0-4387-BB16-C5ADACE18A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34540-5CF7-4C1A-95C9-2DD67DDCB0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29C8C8-67EF-4775-9E18-2BAC777E9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BBD22-3C86-4326-B0BB-7BC70A8141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E7FA2A-9379-4D0C-9E2B-9C7167636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51947A-21B8-4CF1-84AB-3383F80F0C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893991-ABF4-473F-A2BC-D85E681068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E9A5E12-076A-42E3-9388-69947C958F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53D50-B5F9-483B-A136-A37CDD12D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225B4C-0FD0-41F5-AE33-D93F210E12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3968B6-D96D-4860-936E-ECDE3A29FE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67DDD1-90FD-46E7-B3E9-D086535DCC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C18F52-6D31-4D16-A938-77D1129358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C0FB8D-EAAC-4C38-834D-8600654E54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EC2278-24FF-4A7F-892E-5AA0E0C2AD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0D01BF-6138-4E31-9EA4-7B1558AEDE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AFB9DD-964C-40EB-8427-6C3139C651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202A15-0216-4356-9A9C-F3CFB2CF6C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C53139D-F01F-42E7-A3FE-7A9B6C8C6B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489AF-09E2-4B2C-B882-61B852AC9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43715E-B386-4F92-AE7C-0DAEE5746F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8062CE-FF26-43BB-B29B-3F000F272F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3AF3EC-1035-4B1B-A4B7-11E2BA9A79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F96C87-8285-4C6B-978B-3CA076C80F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8CC465-E33E-428C-9FF2-9DCCB554AC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5205F2-2946-46ED-8585-B42303A9FC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1435AD-871A-400D-985D-C827F1441E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5F5B90-58E1-4FFE-B4E2-8E91C6F557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CB4935-BC1A-4978-953B-71B4DC2076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E7287F-A40B-4EC0-AE73-7A13E2EE8B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47495-0AEE-4B1B-8C76-CBDE9C546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218BF8-8856-4E48-B182-24D5D78962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2531BF-B11F-4956-8923-263165325F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4E609D-3CED-4DEE-BB3D-659C7B58EE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495ACA-AE0C-4161-BA85-117EACB9139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99536E-508D-4847-927E-33BD91792F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D67450-8910-4EFE-A2A0-36FCF8590E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857C59-610D-41E4-88D0-185F05580C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2636B0-CBF1-4066-B8C5-C2D586A3F9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ABE31C-9D5E-45C9-A416-EF9BFD8632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CCCDF1-A18E-4D29-96D8-2466636C9F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3B3D2-694E-4D8A-ADD3-4C107CC23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41A9A4-8561-4931-93C2-F0B49B26E4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BDFE51-8A77-4C91-AA57-D8D086031E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FFD22D-2873-406A-A5E3-4D271E725B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910F46-3420-4101-BD05-88EF4BB789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7C5492-1DE6-4525-B0FB-35AA344C33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DE6B6-D444-4495-B844-78800B84F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4A77D-A43F-41B7-80D0-6D391545E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1A35F-9A3F-4766-9476-0E5202396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A3B74-6069-4A5C-8025-881A72702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2675B-2362-4108-9C29-3F30076AD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8DCAF-35F2-4A22-806B-FC5166954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173EA-B5EA-4623-865B-0212E79D0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FC6BD-20B3-4CC8-8FC3-2743D2069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0A037-54DD-4C38-AE9C-2F01A021E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CD3A61-98B6-4F49-AEF7-26566A0E1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00966-536E-488E-A0A5-2AF585000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384B53-0C27-49EA-8D0A-495703BB53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1D399A-0468-44BF-8945-8C95F5DB6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4D08AF-C28A-4497-A72C-3CA0F27C41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8A575-0721-4DA9-A2F6-AD7CF39B3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533BDD-99AB-4A2A-9E7B-AA27231502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5FD78-84A2-414F-86AD-65F03E190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6137A-D6D3-4360-AF9F-0C70F22AE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81B13-79AF-4067-BF16-598D41B09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1EB7C-E76A-44F0-B0DA-3B4A98403D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4E293-F2F3-4234-A8CC-E6CE4DB23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732A8E-4FD1-40A9-935E-E29C5B7CB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CB5867-4269-4F9A-82D2-41C5315CEE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113688-83DE-4EF0-9F50-08BAA952E1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B16115-065C-4357-88F3-7E57067D2A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AF2FDF-EC8A-4AAF-85F5-46C9A113A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D615D5-2CFD-4221-9CE7-1D56427C91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9427A-631C-42BB-8660-76105158B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FEA312-F572-49C1-A345-D91D644F80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9CEB80-A7F4-4B0C-8EE1-0F0664409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3E9D06-F269-49A2-AD3F-16BC88160C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30AAE-2A4B-420C-89C7-AE6E85399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45FBB0-B0B8-4B00-BB3E-E5560B159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B1B95-9188-4490-907F-CF5C6E3C2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FC408-2628-4347-82B6-45B78DD8C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FCD036-1F74-4CF8-81C6-7965EB3D19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A70D7C-9690-445E-94F4-7EFB02B327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D00BF0-D857-4084-8ECC-C4F59129B5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1A05C-C17F-43A8-AED3-51D8F089B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A749EA-D804-41CA-B1C6-88434B1A8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F5F07D-A733-49D7-821D-F1A5422BFF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1DA1DD-9082-49CF-9D03-3010AD1F4D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610874-994A-4898-B2C0-4412373255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D55B22-0941-43C7-9FC7-94675950AD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284303-204E-4EAE-A8F3-790E709FE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18AD0-DF7D-4E59-A508-C8C8992AB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F7E3DB-E7DD-4665-ADDF-E5729DA6E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6D2836-D194-4406-8541-FF65AFBBC6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A1B86A-5F76-4DAB-B3EB-9306E1C1C0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FF08D-045D-4A84-8685-15EC58AE3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39DB47-7B76-4518-AA48-BD71BC589A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2CE41A-7234-47D1-8B13-F438E331B6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A4C8C5-7B82-4BE0-BAC1-2F89FAC056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82E72-D405-44F5-A14A-07FA033D81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72AB1B-5966-4C43-95BA-E96E53AC5B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C33623-CC76-4FDF-A119-175666EAB3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2C688B-C7BE-4718-A1E5-FC72F7CB9F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A8D76-676F-48A3-8E84-F4EFBC74D0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543AE4-3B0F-4920-A362-0311A598A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AF29E-9AB9-46AF-BC1C-F636C72CD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0E5F-B13D-4AF0-BF12-4E424ABA1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0BA6D4-7929-4342-BCD6-A16E3D1D92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9D6551-A06D-4F95-8187-7284AE476A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B29CBA-5D5D-4447-AD1E-8C39C21300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19A8B8-7075-4894-B341-FA7F95DA80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44FC6F-9D7B-4FC8-8671-248FDE29D8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3B0A64-D1BA-4B18-A96E-A4B340CF09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F4572A-7582-4BB1-A44D-B9D8F26DA5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DE9841-E4AE-430E-8958-9F02BA7A3B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FBD1EC-768A-45A9-A258-1B6EF55909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BB159-1E9A-4CC7-BDBE-F4A4F43AFE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7307-2778-42CA-805F-0D72F3B34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A39A2-CB3A-4B02-8C8E-443EFE850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E918C-2445-45BC-ADE6-4DE6C86C32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F28441-6F66-4FE7-AC6B-32B66A78A1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A946FA-E46B-444D-A6B7-A075EDB6A2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4B88AB-E090-495B-88D5-964E78FAA6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E4A9DB-A863-4ADA-91E7-0A0EED1962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C09F59-D8A0-4CE5-9E53-FC17435A48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E6CF26-52D5-4DF8-A2DA-4C8DFF9D85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899E46-22B6-4CA5-BA1E-6F7A6B8DED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0DF283-8B02-49F6-9F04-47A22197B2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9B116-E521-48E5-B7A8-C74BFACE0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458020-C2CF-4B19-A22C-AB0F8F742B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A441D-89DC-4946-BEAA-E2C14152BB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4081D9-861B-4520-9E29-F376CDE16E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1099A-A646-4045-997C-6632E4901D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763FFA-9257-47A8-B39E-14566EDA6C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13B8B2-CC45-4307-9BB1-C679584786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F0C1F4-ECD4-4940-AE26-F1F15B4854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AD5134-8090-4AF7-B464-015AB642DE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0894FD-E454-4DD3-AAF9-14677D7F8A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310054-744B-43A4-BD5C-D7FA17DFE0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3E8BF-BC65-4CDE-BF11-5B74C61652DE}"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6AEA5-A886-4053-9040-1315E24969DC}" type="slidenum">
              <a:rPr b="0" lang="en-US" sz="1200" spc="-1" strike="noStrike">
                <a:solidFill>
                  <a:srgbClr val="898989"/>
                </a:solidFill>
                <a:latin typeface="Calibri"/>
              </a:rPr>
              <a:t>&lt;number&gt;</a:t>
            </a:fld>
            <a:fld id="{08E91C96-FF0D-482C-8440-60B6664A56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ED63B-70A5-47A3-9EB5-7D1BC4687565}"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6957C-FAE7-4A5A-A431-F34177996A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D56ED-50AD-44B3-B26F-2BCD082B46DE}"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9DE2A-D82A-4A70-B614-D0AF29BD64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85033-CFEC-4F02-A627-DDD6E643F641}"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E0D14-9513-4BC4-A4E6-E9112E01CA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06D7B-138A-491A-B12B-2A33C1674CFD}"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30697-EB32-44E0-9E57-DC8E426F65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34C52-869A-4E6C-97C9-7DD01AC6EA32}"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B54B7-B74C-4214-9B2C-BEF2126A45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69401-58EC-4B52-B51B-09A51EA360F5}"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386F6-449D-4C55-B0F0-5A8F15890E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CDEAE-E909-4B0B-AC4C-996170B04151}"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9355B-B46C-4850-AFC2-3A291C30E2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4E4E2-8A00-40D4-AA7D-ED6D1205A37D}"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CD081-7C02-4743-AD08-7A79B11D36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20AD5-96DA-409E-9212-C18159F9B448}"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4F801-6279-4427-9E3A-789C534D9F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86B91F-2EF4-40C5-BACB-7861ED0AA5DB}"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A2DBB-867C-48E1-981D-9EB3C22C69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C396A-7F05-4405-BB22-2DE036D932EE}"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5ADA1-D9B2-4CE5-9E10-5744BFEFE3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Praha</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4.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2094C-359C-4CB2-AF6B-9BA86B6664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75517A-CF78-4E2D-B88C-7B844889E9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0FB16-5282-4935-BF6C-399360669B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5723D-6221-4D86-B5C9-A18C635251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10E1E-1217-4406-A9CB-3BABC0E865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C6B46-E92A-40D5-9A58-0565F4B0AB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508AB-901E-441C-9493-963B221C5D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EDA6D-07EB-4746-AB1B-E7D660D710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E6773-F516-4B69-84E4-D05780F435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4BD9A-F3A4-415D-BE33-395EB41565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2FD54-D118-4A79-A98F-6A4969A954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08CBF-97E9-4E1E-B065-0D7CC285CF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45167-5331-488A-85F6-B6C437F720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ACABB-0B5E-4654-A9F8-C198DA2985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96F44-B188-44BD-8D04-E0A9376B74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778CE-BBF8-4904-86FB-C558CF8ACC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138560"/>
        </p:xfrm>
        <a:graphic>
          <a:graphicData uri="http://schemas.openxmlformats.org/drawingml/2006/table">
            <a:tbl>
              <a:tblPr/>
              <a:tblGrid>
                <a:gridCol w="382680"/>
                <a:gridCol w="666720"/>
                <a:gridCol w="4228920"/>
                <a:gridCol w="585720"/>
                <a:gridCol w="1097280"/>
              </a:tblGrid>
              <a:tr h="701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5A18B-A6FE-4F4D-A365-FAAAF7BE3A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D3CF7-91F1-4303-AD19-BA1A967853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B96ED-DD1D-498A-85D7-E1BD713F9C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C4C3F-E4A8-463A-983D-B2B72D02D5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4EE13-B724-4C6B-9CB3-771F209159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0-12-22T12:59:21Z</dcterms:modified>
  <cp:revision>55</cp:revision>
  <dc:subject/>
  <dc:title>Titulní strana – Titulek</dc:title>
</cp:coreProperties>
</file>